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4AA2-9A8C-4DDD-A751-4DD62E2A31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about 1 hr: speaking 1 – 10 mins; grammar – 15 mins; reading – 15 mins; speaking 2 – 2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6D16-7994-4451-9106-FD77AAB768C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all true except 2 (voting is not mandatory in German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B6FF-2568-408B-8DCB-B119C2E33FD1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understanding of structures with concept questions and drill where necessary. Then allow learners to discuss and note down errors for post task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469B-6B54-4C1A-9AAD-5E80379FBA3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print out the article, or get learners to read it online. If reading a paper copy, learners could underline or highlight all the points they want to reme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9CBA-DE7A-4318-911C-2F7E8D453E3B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leave the compulsory/optional language on the board/wall for learners to refer to. If time, re-pair learners so they can repeat the argument with different partners. Monitor for errors and note them down for post task error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t learners tell each other at the end which arguments they really do agree with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6BF7-602F-45B5-81EA-F52F81F43159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9700-467F-445E-8C8E-5D560396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AB48-69B4-436C-BD6E-439C5651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A642-A9F4-4C28-8AED-428C5363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B939-0D43-4B55-AC06-E66DE871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9232-9FE6-41DB-A5C8-0958F89F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7C5-BEE7-4EB5-B9F9-6F3F53FC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859-B2DE-4682-AF72-3A44C3E0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AD7-EBF3-4215-8A95-F0B17074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CC0A-36DE-4256-9F3C-CC8BAAEF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B5A7-1EE3-49EE-8783-72A732D2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FEE8-E9BD-4D99-83B1-54933541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547-9FB8-463C-9AA2-DCA96FB3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6D54-51D0-4147-8A11-8637B356E07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Is_it_a_good_idea_to_say_that_everyone_must_vote%3F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ewint.org/sections/argument/2015/03/18/uri-220.jp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6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ffffff"/>
                </a:solidFill>
                <a:latin typeface="Calibri"/>
              </a:rPr>
              <a:t>Voting</a:t>
            </a:r>
            <a:endParaRPr b="0" lang="en-US" sz="1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24000" y="4437000"/>
            <a:ext cx="48956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alibri"/>
              </a:rPr>
              <a:t>NEW INTERNATIONALIST  EASIER ENGLISH INTERMEDIATE READY LESS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16360" y="476280"/>
            <a:ext cx="601668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4920" y="3933720"/>
            <a:ext cx="379584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Grammar – </a:t>
            </a: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how to say things are optional and compulsory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Speaking – </a:t>
            </a:r>
            <a:r>
              <a:rPr b="1" lang="en-GB" sz="4400" spc="-1" strike="noStrike">
                <a:solidFill>
                  <a:srgbClr val="ffc000"/>
                </a:solidFill>
                <a:latin typeface="Calibri"/>
              </a:rPr>
              <a:t>about voting in different countries, and if voting should be compulsory or no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alibri"/>
              </a:rPr>
              <a:t>Reading – </a:t>
            </a: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an argumen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True or false? - general elections?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the UK, voting is optional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Everyone has to vote in German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only vote if you want to in Franc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ing is compulsory in Brazil if you’re between 18 and 70, but you can vote if you like if you’re 16, 17 or over 70 (if you are literate)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are fined if you don’t vote in some countri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must vote in Australia because it’s mandator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don’t have a choice whether to vote or not in Argentina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What do you notice about the underlined language?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the UK, voting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is optional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Everyone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has to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e in German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only vote if you want to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Franc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ing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is compulsory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Brazil if you’re between 18 and 70, but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you can vote if you like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f you’re 16, 17 or over 70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are fined if you don’t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e in some countri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must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 vote in Australia because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it’s mandatory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don’t have a choice whether to vote or not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in Argentina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You </a:t>
            </a:r>
            <a:r>
              <a:rPr b="1" lang="en-GB" sz="3000" spc="-1" strike="noStrike" u="sng">
                <a:solidFill>
                  <a:srgbClr val="ffffff"/>
                </a:solidFill>
                <a:uFillTx/>
                <a:latin typeface="Calibri"/>
              </a:rPr>
              <a:t>don’t have to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vote in Spai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Discuss your country and other countries – which do you think is best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1600200"/>
            <a:ext cx="42447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ing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is compuls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have to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Everyone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has to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are fined if you don’t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must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 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Voting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is mandato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ff0000"/>
                </a:solidFill>
                <a:uFillTx/>
                <a:latin typeface="Calibri"/>
              </a:rPr>
              <a:t>don’t have a choice whether to vote or no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Voting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is option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only vote if you want t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can vote if you lik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You </a:t>
            </a:r>
            <a:r>
              <a:rPr b="1" lang="en-GB" sz="3200" spc="-1" strike="noStrike" u="sng">
                <a:solidFill>
                  <a:srgbClr val="00b050"/>
                </a:solidFill>
                <a:uFillTx/>
                <a:latin typeface="Calibri"/>
              </a:rPr>
              <a:t>don’t have to vo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Read this article: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Calibri"/>
              </a:rPr>
              <a:t>“Is it a good idea to make everyone vote?”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Group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– find all the </a:t>
            </a: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YES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rguments                       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Group </a:t>
            </a:r>
            <a:r>
              <a:rPr b="0" lang="en-GB" sz="4400" spc="-1" strike="noStrike">
                <a:solidFill>
                  <a:srgbClr val="00b0f0"/>
                </a:solidFill>
                <a:latin typeface="Calibri"/>
              </a:rPr>
              <a:t>B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– find all the </a:t>
            </a:r>
            <a:r>
              <a:rPr b="1" lang="en-GB" sz="4400" spc="-1" strike="noStrike">
                <a:solidFill>
                  <a:srgbClr val="00b0f0"/>
                </a:solidFill>
                <a:latin typeface="Calibri"/>
              </a:rPr>
              <a:t>NO</a:t>
            </a: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argu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522900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49100"/>
                </a:solidFill>
                <a:uFillTx/>
                <a:latin typeface="Calibri"/>
                <a:hlinkClick r:id="rId1"/>
              </a:rPr>
              <a:t>http://eewiki.newint.org/index.php/Is_it_a_good_idea_to_say_that_everyone_must_vote%3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7308720" y="549360"/>
            <a:ext cx="1636920" cy="223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7277040" y="3141720"/>
            <a:ext cx="16239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Now divide into pairs – A&amp;B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413000"/>
            <a:ext cx="41716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A –     you think voting should be compulsory – try to persuade B with all the reasons you found in the tex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413000"/>
            <a:ext cx="4171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000"/>
                </a:solidFill>
                <a:latin typeface="Calibri"/>
              </a:rPr>
              <a:t>B – you think voting should be optional – try to persuade A with all the arguments you found in the tex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alibri"/>
              </a:rPr>
              <a:t>Homework: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077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Choice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libri"/>
              </a:rPr>
              <a:t>Reading</a:t>
            </a: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: read the original argument: </a:t>
            </a:r>
            <a:r>
              <a:rPr b="0" lang="en-GB" sz="4000" spc="-1" strike="noStrike" u="sng">
                <a:solidFill>
                  <a:srgbClr val="f49100"/>
                </a:solidFill>
                <a:uFillTx/>
                <a:latin typeface="Calibri"/>
                <a:hlinkClick r:id="rId1"/>
              </a:rPr>
              <a:t>http://www.newint.org/sections/argument/2015/03/18/uri-220.jp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or (and?)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Calibri"/>
              </a:rPr>
              <a:t>Writing</a:t>
            </a:r>
            <a:r>
              <a:rPr b="0" lang="en-GB" sz="4000" spc="-1" strike="noStrike">
                <a:solidFill>
                  <a:srgbClr val="ffffff"/>
                </a:solidFill>
                <a:latin typeface="Calibri"/>
              </a:rPr>
              <a:t>: write an article for a magazine about what you really think: “Should voting be compulsory?”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6227640" y="115920"/>
            <a:ext cx="271332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3T15:10:39Z</dcterms:created>
  <dc:creator>Linda Ruas</dc:creator>
  <dc:description/>
  <dc:language>en-US</dc:language>
  <cp:lastModifiedBy>Linda Ruas</cp:lastModifiedBy>
  <dcterms:modified xsi:type="dcterms:W3CDTF">2015-04-23T16:09:06Z</dcterms:modified>
  <cp:revision>7</cp:revision>
  <dc:subject/>
  <dc:title>Voting</dc:title>
</cp:coreProperties>
</file>